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7ACE-FCDE-4C0F-AD1F-77E236EB8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D570-4F8D-4BB3-8149-26ADF16B4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DF5-D3BD-4E94-82B1-BA390896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17F-72F6-4BC1-A5C6-FA79258D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AC6-0139-44BB-935C-16FE92BB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27D-B969-4450-911D-80175C04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F74-AB71-4B90-AFED-63458B2B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231-2255-478A-B70D-0AFF1A0A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A2F-D8AB-47B5-A746-4009985B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951-45DD-4FBD-9D98-5EFE6A9E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7C8-2FA8-4ABB-B5B6-3A9A7562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C6F-6E9D-4A1D-888E-D2BE9116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083-4403-4998-8BD6-87B6E71F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246-F8F4-423C-BA26-F6191430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BC17-23CD-41BB-AE61-B94E192BF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781680" y="2728800"/>
            <a:ext cx="2265480" cy="1295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dickielogo"/>
          <p:cNvPicPr/>
          <p:nvPr/>
        </p:nvPicPr>
        <p:blipFill>
          <a:blip r:embed="rId1"/>
          <a:stretch/>
        </p:blipFill>
        <p:spPr>
          <a:xfrm>
            <a:off x="1828800" y="4267080"/>
            <a:ext cx="3440160" cy="1951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Icon alpha1-w®"/>
          <p:cNvPicPr/>
          <p:nvPr/>
        </p:nvPicPr>
        <p:blipFill>
          <a:blip r:embed="rId2"/>
          <a:stretch/>
        </p:blipFill>
        <p:spPr>
          <a:xfrm>
            <a:off x="3809880" y="1143000"/>
            <a:ext cx="5141880" cy="2997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762120" y="685800"/>
            <a:ext cx="24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always use the registered trademark “®” with the lo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in white or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17:00:15Z</dcterms:created>
  <dc:creator>Williamson-Dickie User</dc:creator>
  <dc:description/>
  <dc:language>en-US</dc:language>
  <cp:lastModifiedBy>Admin01</cp:lastModifiedBy>
  <dcterms:modified xsi:type="dcterms:W3CDTF">2012-09-14T18:15:38Z</dcterms:modified>
  <cp:revision>11</cp:revision>
  <dc:subject/>
  <dc:title>Slide 1</dc:title>
</cp:coreProperties>
</file>